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67A-4F30-4176-9C76-7303EC2B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8FA-82B3-4BE3-8871-E1870602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817-ABAC-43AA-8B82-03F06B70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14D-263D-40E3-B89C-C103C770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161-25CE-49B7-A3CC-AFD0EBB5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E3EB-FF44-4085-8DFF-E5D5B65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B244-09B2-43AC-A9BE-587507DD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32BB-F505-490B-8659-C7E1819F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736D-8360-4B0B-A2EE-9D7890FB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A1B-A733-466A-A356-8CAE561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0795-8EDC-4A41-8842-D094C1FC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65D-A752-4730-A6DB-4D47C07F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557C-56FC-4A38-BA07-133A756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3109-EF00-4A5D-B8E0-C130685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5B6F-A497-4BBC-AF90-A4F1A2BB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B7C0-EB71-4906-AFE5-ABA444DA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97A-9D9F-4806-AFF2-3149F973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9D9-CEE8-4A01-83C9-8D7D5C4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CC1-DB81-438F-B067-392D910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28C-C0A3-4EC9-90A2-8A868FAF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E42-6B1C-48C2-97C3-308141C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1F2-E48F-4616-BA75-2573EC7B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FA3-84E3-4544-907C-68D2E7F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38B-7CB6-4AB2-8F11-1AED54C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1B89-B0B7-495C-BA2F-B2774BB35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636-8AB7-4567-8525-58A8E102A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ir, We Would See Jesu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9,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36 - 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1:21 – 2: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D120-C27C-4962-B517-C4F2439DBA9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Eats With Sinners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Mark 2:15-17; Matt. 9:10-13; Luke 5:29-32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holds a feast and invites Jesus and some publ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arisees had a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arisees thought Jesus should not have any associations with publicans and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saw it as an opportunity to influence the salvation of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althy person has no need for a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D60-F3BE-4E6C-A6C0-99F13DCA40C5}" type="slidenum">
              <a:t>10</a:t>
            </a:fld>
          </a:p>
        </p:txBody>
      </p: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Jesus participating in sin and condoning it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Matthew holding a “feast”, or a “drinking party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ea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018-5D18-4B2A-A699-3D95F2C06ADA}" type="slidenum">
              <a:t>11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Proble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criticism was that Jesus was eating with publicans and si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us, it was not the act itself (eating) that was questionable to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an issue of WHOM Jesus was eating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Jesus should never eat with sinners, would He have been able to eat with the Pharise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real problem was in the lack of mercy in the heart of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F4F-349B-4CEC-8EFA-22D39276520B}" type="slidenum">
              <a:t>12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From Last Lesso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ning Min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alilean Mini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ed the nobleman’s 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jected at Nazar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ernaum – He returns there o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stles Called - Peter, Andrew, James, and John to be fishers of 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7D0-C354-48C4-AE02-2EFAFA3A8844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1120" y="2236680"/>
            <a:ext cx="4464360" cy="4148280"/>
          </a:xfrm>
          <a:custGeom>
            <a:avLst/>
            <a:gdLst/>
            <a:ahLst/>
            <a:rect l="l" t="t" r="r" b="b"/>
            <a:pathLst>
              <a:path w="2812" h="2613">
                <a:moveTo>
                  <a:pt x="2784" y="357"/>
                </a:moveTo>
                <a:cubicBezTo>
                  <a:pt x="2713" y="322"/>
                  <a:pt x="2672" y="273"/>
                  <a:pt x="2601" y="242"/>
                </a:cubicBezTo>
                <a:cubicBezTo>
                  <a:pt x="2588" y="236"/>
                  <a:pt x="2576" y="228"/>
                  <a:pt x="2563" y="223"/>
                </a:cubicBezTo>
                <a:cubicBezTo>
                  <a:pt x="2544" y="216"/>
                  <a:pt x="2505" y="204"/>
                  <a:pt x="2505" y="204"/>
                </a:cubicBezTo>
                <a:cubicBezTo>
                  <a:pt x="2194" y="0"/>
                  <a:pt x="1612" y="184"/>
                  <a:pt x="1200" y="204"/>
                </a:cubicBezTo>
                <a:cubicBezTo>
                  <a:pt x="1090" y="221"/>
                  <a:pt x="980" y="257"/>
                  <a:pt x="873" y="290"/>
                </a:cubicBezTo>
                <a:cubicBezTo>
                  <a:pt x="836" y="314"/>
                  <a:pt x="797" y="317"/>
                  <a:pt x="758" y="338"/>
                </a:cubicBezTo>
                <a:cubicBezTo>
                  <a:pt x="704" y="367"/>
                  <a:pt x="659" y="407"/>
                  <a:pt x="604" y="434"/>
                </a:cubicBezTo>
                <a:cubicBezTo>
                  <a:pt x="540" y="498"/>
                  <a:pt x="568" y="463"/>
                  <a:pt x="518" y="540"/>
                </a:cubicBezTo>
                <a:cubicBezTo>
                  <a:pt x="509" y="553"/>
                  <a:pt x="491" y="558"/>
                  <a:pt x="480" y="569"/>
                </a:cubicBezTo>
                <a:cubicBezTo>
                  <a:pt x="465" y="583"/>
                  <a:pt x="453" y="600"/>
                  <a:pt x="441" y="617"/>
                </a:cubicBezTo>
                <a:cubicBezTo>
                  <a:pt x="377" y="704"/>
                  <a:pt x="328" y="814"/>
                  <a:pt x="288" y="914"/>
                </a:cubicBezTo>
                <a:cubicBezTo>
                  <a:pt x="273" y="999"/>
                  <a:pt x="253" y="1064"/>
                  <a:pt x="230" y="1145"/>
                </a:cubicBezTo>
                <a:cubicBezTo>
                  <a:pt x="224" y="1199"/>
                  <a:pt x="225" y="1255"/>
                  <a:pt x="211" y="1308"/>
                </a:cubicBezTo>
                <a:cubicBezTo>
                  <a:pt x="205" y="1330"/>
                  <a:pt x="185" y="1346"/>
                  <a:pt x="172" y="1365"/>
                </a:cubicBezTo>
                <a:cubicBezTo>
                  <a:pt x="166" y="1375"/>
                  <a:pt x="153" y="1394"/>
                  <a:pt x="153" y="1394"/>
                </a:cubicBezTo>
                <a:cubicBezTo>
                  <a:pt x="125" y="1523"/>
                  <a:pt x="59" y="1609"/>
                  <a:pt x="19" y="1730"/>
                </a:cubicBezTo>
                <a:cubicBezTo>
                  <a:pt x="25" y="1862"/>
                  <a:pt x="0" y="1911"/>
                  <a:pt x="57" y="1999"/>
                </a:cubicBezTo>
                <a:cubicBezTo>
                  <a:pt x="65" y="2046"/>
                  <a:pt x="64" y="2073"/>
                  <a:pt x="96" y="2105"/>
                </a:cubicBezTo>
                <a:cubicBezTo>
                  <a:pt x="119" y="2164"/>
                  <a:pt x="147" y="2223"/>
                  <a:pt x="192" y="2268"/>
                </a:cubicBezTo>
                <a:cubicBezTo>
                  <a:pt x="236" y="2359"/>
                  <a:pt x="258" y="2388"/>
                  <a:pt x="345" y="2441"/>
                </a:cubicBezTo>
                <a:cubicBezTo>
                  <a:pt x="367" y="2503"/>
                  <a:pt x="337" y="2440"/>
                  <a:pt x="384" y="2479"/>
                </a:cubicBezTo>
                <a:cubicBezTo>
                  <a:pt x="426" y="2513"/>
                  <a:pt x="377" y="2506"/>
                  <a:pt x="432" y="2527"/>
                </a:cubicBezTo>
                <a:cubicBezTo>
                  <a:pt x="463" y="2539"/>
                  <a:pt x="480" y="2532"/>
                  <a:pt x="508" y="2546"/>
                </a:cubicBezTo>
                <a:cubicBezTo>
                  <a:pt x="624" y="2604"/>
                  <a:pt x="661" y="2600"/>
                  <a:pt x="796" y="2613"/>
                </a:cubicBezTo>
                <a:cubicBezTo>
                  <a:pt x="991" y="2607"/>
                  <a:pt x="1187" y="2606"/>
                  <a:pt x="1382" y="2594"/>
                </a:cubicBezTo>
                <a:cubicBezTo>
                  <a:pt x="1453" y="2590"/>
                  <a:pt x="1499" y="2510"/>
                  <a:pt x="1564" y="2489"/>
                </a:cubicBezTo>
                <a:cubicBezTo>
                  <a:pt x="1593" y="2460"/>
                  <a:pt x="1628" y="2438"/>
                  <a:pt x="1660" y="2412"/>
                </a:cubicBezTo>
                <a:cubicBezTo>
                  <a:pt x="1702" y="2379"/>
                  <a:pt x="1733" y="2343"/>
                  <a:pt x="1785" y="2325"/>
                </a:cubicBezTo>
                <a:cubicBezTo>
                  <a:pt x="1847" y="2265"/>
                  <a:pt x="1928" y="2220"/>
                  <a:pt x="2006" y="2181"/>
                </a:cubicBezTo>
                <a:cubicBezTo>
                  <a:pt x="2065" y="2151"/>
                  <a:pt x="2113" y="2132"/>
                  <a:pt x="2160" y="2085"/>
                </a:cubicBezTo>
                <a:cubicBezTo>
                  <a:pt x="2163" y="2076"/>
                  <a:pt x="2164" y="2065"/>
                  <a:pt x="2169" y="2057"/>
                </a:cubicBezTo>
                <a:cubicBezTo>
                  <a:pt x="2174" y="2049"/>
                  <a:pt x="2184" y="2045"/>
                  <a:pt x="2188" y="2037"/>
                </a:cubicBezTo>
                <a:cubicBezTo>
                  <a:pt x="2195" y="2023"/>
                  <a:pt x="2210" y="1973"/>
                  <a:pt x="2217" y="1951"/>
                </a:cubicBezTo>
                <a:cubicBezTo>
                  <a:pt x="2220" y="1877"/>
                  <a:pt x="2210" y="1802"/>
                  <a:pt x="2227" y="1730"/>
                </a:cubicBezTo>
                <a:cubicBezTo>
                  <a:pt x="2233" y="1704"/>
                  <a:pt x="2265" y="1692"/>
                  <a:pt x="2284" y="1673"/>
                </a:cubicBezTo>
                <a:cubicBezTo>
                  <a:pt x="2291" y="1666"/>
                  <a:pt x="2304" y="1653"/>
                  <a:pt x="2304" y="1653"/>
                </a:cubicBezTo>
                <a:cubicBezTo>
                  <a:pt x="2327" y="1585"/>
                  <a:pt x="2312" y="1613"/>
                  <a:pt x="2342" y="1567"/>
                </a:cubicBezTo>
                <a:cubicBezTo>
                  <a:pt x="2356" y="1514"/>
                  <a:pt x="2369" y="1458"/>
                  <a:pt x="2400" y="1413"/>
                </a:cubicBezTo>
                <a:cubicBezTo>
                  <a:pt x="2429" y="1327"/>
                  <a:pt x="2463" y="1242"/>
                  <a:pt x="2486" y="1154"/>
                </a:cubicBezTo>
                <a:cubicBezTo>
                  <a:pt x="2497" y="1111"/>
                  <a:pt x="2503" y="1062"/>
                  <a:pt x="2534" y="1029"/>
                </a:cubicBezTo>
                <a:cubicBezTo>
                  <a:pt x="2544" y="991"/>
                  <a:pt x="2550" y="938"/>
                  <a:pt x="2572" y="905"/>
                </a:cubicBezTo>
                <a:cubicBezTo>
                  <a:pt x="2585" y="886"/>
                  <a:pt x="2611" y="847"/>
                  <a:pt x="2611" y="847"/>
                </a:cubicBezTo>
                <a:cubicBezTo>
                  <a:pt x="2623" y="809"/>
                  <a:pt x="2635" y="792"/>
                  <a:pt x="2668" y="770"/>
                </a:cubicBezTo>
                <a:cubicBezTo>
                  <a:pt x="2682" y="729"/>
                  <a:pt x="2707" y="694"/>
                  <a:pt x="2726" y="655"/>
                </a:cubicBezTo>
                <a:cubicBezTo>
                  <a:pt x="2747" y="613"/>
                  <a:pt x="2742" y="601"/>
                  <a:pt x="2774" y="559"/>
                </a:cubicBezTo>
                <a:cubicBezTo>
                  <a:pt x="2787" y="521"/>
                  <a:pt x="2800" y="483"/>
                  <a:pt x="2812" y="444"/>
                </a:cubicBezTo>
                <a:cubicBezTo>
                  <a:pt x="2791" y="370"/>
                  <a:pt x="2803" y="398"/>
                  <a:pt x="2784" y="357"/>
                </a:cubicBez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57400" y="304920"/>
            <a:ext cx="4800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rea of Galil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8266320" y="632448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9ED6-A3F9-402C-92CC-FC89CA9D1BB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19560" y="3809880"/>
            <a:ext cx="160020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B1B-8A10-4F51-A0BB-54064B2DC773}" type="slidenum">
              <a:t>3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Casts Out Demons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21-28; Luke 4:31-37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aught in the synag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ower over the demoniac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orment of the possessed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knowledgement by the de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anding power of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mazement of the crow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fame spread all around Galil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D90-2291-436A-8BEE-AA82A123D1AD}" type="slidenum">
              <a:t>4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Heals Simon’s Mother-in-law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29-34; Matt. 8:14-17; Luke 4:38-41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ent to Simon and Andrew’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mother-in-law was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power over the f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diate rel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 city came to the door to be hea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led the sick and cast out dem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814-0F2E-4BA4-BCFB-37E2B3016952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Tours Galile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35-39; Matt. 4:23-25; Luke 4:42-44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ing and Hea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seeking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urpose was to pr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eached in synagogues throughout all Galil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, His critics will become more vo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healings will be criticized as “work” on the Sabbath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miracles will be explained as Satanic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0F0-C0EC-4AA4-BB5B-E5505560A616}" type="slidenum">
              <a:t>6</a:t>
            </a:fld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Jesus Heals a Leper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1:40-45; Matt. 8:2-4; Luke 5:12-16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itiful man came kneeling to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was moved with compa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xpediency of Jesus’ command for the healed man not to tell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to teach the soul is greater than the need to heal 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to avoid being a side-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for priv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ed for room to be alone with His disciples and with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151-D965-4B1F-B287-B117AE1CD092}" type="slidenum">
              <a:t>7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His Power Over Paralysis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Mark 2:1-12; Matt. 9:2-8; Luke 5:17-26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reached the word to a crowd in Caperna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led a paraly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saw the faith of those who brought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Jesus announce a man’s forgiveness of si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lawed reasoning of the Pharis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of of Jesus’ right to exercise the divine position of forgiveness was in the miracle of healing the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65C-089D-4D55-B0D8-03AD461255B7}" type="slidenum">
              <a:t>8</a:t>
            </a:fld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The Call of Matthew (Levi)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 Mark 2:13-17; Matt. 9:9-13; Luke 5:27-28</a:t>
            </a:r>
            <a:endParaRPr b="0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ublican (tax collector) collected tribute money for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a despised occupation for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ew was called to work for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eft his job to follow Jes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AED-E77F-45A6-8403-6E426DCE4FE5}" type="slidenum">
              <a:t>9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18:03:42Z</dcterms:created>
  <dc:creator>Terry W. Benton</dc:creator>
  <dc:description/>
  <dc:language>en-US</dc:language>
  <cp:lastModifiedBy>Frank D Vines</cp:lastModifiedBy>
  <dcterms:modified xsi:type="dcterms:W3CDTF">2006-08-06T13:23:21Z</dcterms:modified>
  <cp:revision>16</cp:revision>
  <dc:subject/>
  <dc:title>Sir, We Would See Jesus</dc:title>
</cp:coreProperties>
</file>